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D3F9-9750-4562-A47D-17D7EFBED2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78F9-DD3B-41C4-B059-9B869A7AC5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996-2AAF-4E6D-9D73-860980B7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918-2192-4877-BFE0-76F74D38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982-5224-476C-878E-23EE20EC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FE8-8721-4348-A1CE-97BB7984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2B71-D198-4756-91A7-174BF33F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ED4D-7AB5-484A-B52E-CDC130F5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3035-42B7-4725-95A8-48C6EA9C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B57F-406C-42EF-AB37-D74B146C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D51E-72EF-41D2-BAC1-DD6C74D4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7D58-6F63-449E-B40E-93F28CC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94E2-306A-40F6-9C65-1CCDF52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58E-8914-4378-8962-843DFEB4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23A-F2B5-434B-8A6E-D8A7FB50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B1D0-6DB1-4205-80FA-F4A3B627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7371-D09C-4224-95A6-0AB03C19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597F-AFEA-4C5D-A324-13E51B93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7B95-FA84-41B4-8DB5-82D8A30A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220A-82A0-450A-A4FA-393E3041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5BD8-5E58-4DCA-A4EA-8B33DD35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5B3E-868C-449F-9B4E-35C78A0D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6F47-819A-437C-A1C9-3F122CC9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5456F-403F-4B9F-9F94-A074E412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47D-324B-43A9-B897-E851D6B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4CB9-7C95-4BDA-A3D5-75E058EB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A210-22A2-491B-B160-6CDDADC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90E8-2327-4D5B-9BFB-5479F105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3DF4-00B6-44B1-B380-6CBB126F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B3811-22ED-4D49-8299-B67D332B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64A9-77FA-4F40-AB1E-F2147E17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3A22-0260-41BB-9213-E4951C50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86C7-5406-482E-B64E-1B7BA520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3DED-979C-44FA-AE43-0FCA4FED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202F-653B-4F84-B9A7-BDF9D626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7F8-656B-4471-925D-3C6F82FC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8406-B658-470C-ABB5-5E0656F6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5FCF-5A78-427A-8503-D14D84AC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5DF80-B378-4C4F-9910-AB37D037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6D90-AEB8-4D60-B176-E569A305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00022-C5A3-452E-A85D-9845BDD3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9422-878D-4383-BC5F-ED9F1CC9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4977-F1B4-4135-8A5C-61E0EFC1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798E-1621-411A-82D3-AD7A4F16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9B8A-7FA8-44AB-AB94-93784934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FE8D5-57E8-495C-9D42-F331A236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809-06DD-4DF1-BA9A-AECEE112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C30E1-B1B8-4BBA-B215-55C76FA4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56C6-8784-4472-AAE8-24508DD9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864F4-88A3-4221-AB6D-5DC6724A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24F00-ABA1-4281-B796-EB7417EC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8DF25-D40C-4AA0-8496-9EE3DDEB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399FB-24FB-45C0-8528-4199941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B760F-B613-4A12-A93A-1EAA085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3FDA-D471-453A-B508-E17CBD0A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8B17-864B-48EC-A80D-94C7E1FE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7D789-77D5-41D8-9F9E-2F1BD666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708-1438-4E5B-B6F4-BE2E989C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B8DF-FFFC-4836-A8CB-371265AA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A22-5EDD-4B2A-BB44-6566F91A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E5E-9CD8-44A7-A29D-908BBBA7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DE7-DD65-4708-92A7-880804D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5975-AE25-4392-9AE6-8D5C225DEB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7A60-83D7-4462-9D11-C76B58C5CB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5DC2-B638-4335-914F-E368265AD3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4F2E-1EFF-4B60-A3CE-CE89F01A129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4055-355F-4B47-BA34-DF6EC7E22B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Arial"/>
                <a:ea typeface="Arial"/>
              </a:rPr>
              <a:t>Решение квадратных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78552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ежде, чем думать о решении будущих задач, научитесь справляться с сегодняшним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за наименьшее время 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 большей эффективностью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.Друкер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920"/>
            <a:ext cx="8258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Квадратным уравнением называется уравнение вида …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а, в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квадратном уравнении  называю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) Коэффициент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вадратного уравнения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) Второй коэффициент в уравнении: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2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х – 3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) Первый коэффициент в уравнении: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4х – 7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6) Выражение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4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a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7) Количество корней квадратного уравнения зависит о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8) Если дискриминант положи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9) Если дискриминант отрица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0) Квадратное уравнение имеет один корень, если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1) Напишите формулу корней квадратного уравн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714240"/>
            <a:ext cx="77724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² + вх + с = 0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ободный чле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ва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 имеет кор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 равен 0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=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цен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правильно –      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9-10 правильных ответов –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-8 правильных ответов –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остальных случаях –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делаем вывод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х² + вх + с = 0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уравне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4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имин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рней зависит от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&g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два различных 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D=0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дин коре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уравнение корней не име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корне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Желаю успехов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0T13:48:06Z</dcterms:modified>
  <cp:revision>34</cp:revision>
  <dc:subject/>
  <dc:title>Слайд 1</dc:title>
</cp:coreProperties>
</file>